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66D-7900-4593-BB3E-92981A2C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A929-B05E-4582-B51D-61919279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52B3-F275-4551-AAA5-7AF4C3F2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6FC-3AE6-44CA-86FC-7F636A55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193-13F5-4B2E-B496-63F1DBC5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9654-34BF-4526-B990-7A4B1764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6A50-72F1-4604-8F70-F7114FE7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CE3-16A6-4C95-A90B-EB7C8841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ACE9-A385-4E1A-AA93-12661AC6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683-EA91-4C00-956B-2FDE6E5D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1DA7-F03D-4EAD-B581-74D62097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548D-8421-47CE-A3A4-12C3B90E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1285-6413-4FB7-8607-0F6D38364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5175360" y="-6480"/>
            <a:ext cx="3975120" cy="3213360"/>
            <a:chOff x="5175360" y="-6480"/>
            <a:chExt cx="3975120" cy="321336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5175360" y="-6480"/>
              <a:ext cx="3975120" cy="32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81480" y="0"/>
              <a:ext cx="396252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300" spc="-1" strike="noStrike">
                  <a:solidFill>
                    <a:srgbClr val="018d86"/>
                  </a:solidFill>
                  <a:latin typeface="Bauhaus 93"/>
                </a:rPr>
                <a:t> </a:t>
              </a:r>
              <a:r>
                <a:rPr b="1" lang="fr-FR" sz="4400" spc="-1" strike="noStrike">
                  <a:solidFill>
                    <a:srgbClr val="018d86"/>
                  </a:solidFill>
                  <a:latin typeface="Bauhaus 93"/>
                </a:rPr>
                <a:t>NOTRE VISION  </a:t>
              </a:r>
              <a:br>
                <a:rPr sz="4300"/>
              </a:br>
              <a:r>
                <a:rPr b="1" lang="fr-FR" sz="4300" spc="-1" strike="noStrike">
                  <a:solidFill>
                    <a:srgbClr val="018d86"/>
                  </a:solidFill>
                  <a:latin typeface="Bauhaus 93"/>
                </a:rPr>
                <a:t>-</a:t>
              </a:r>
              <a:r>
                <a:rPr b="1" lang="fr-FR" sz="4300" spc="-1" strike="noStrike">
                  <a:solidFill>
                    <a:srgbClr val="086e5d"/>
                  </a:solidFill>
                  <a:latin typeface="Bauhaus 93"/>
                </a:rPr>
                <a:t>UNE-</a:t>
              </a:r>
              <a:br>
                <a:rPr sz="4300"/>
              </a:br>
              <a:r>
                <a:rPr b="1" lang="fr-FR" sz="3600" spc="-1" strike="noStrike">
                  <a:solidFill>
                    <a:srgbClr val="086e5d"/>
                  </a:solidFill>
                  <a:latin typeface="Elephant"/>
                </a:rPr>
                <a:t>DECOUVEREPRECTIQU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Picture 2" descr="http://www.google.ro/url?source=imglanding&amp;ct=img&amp;q=http://pyramidsport.com/wp-content/uploads/vpccl-raihan-wk1-11.jpg&amp;sa=X&amp;ei=7yFeT7PjG4ev0QW37ZHrDQ&amp;ved=0CAwQ8wc4Hw&amp;usg=AFQjCNEb8Mov1VzjrakLuDCkGD9KGcoN6Q"/>
          <p:cNvPicPr/>
          <p:nvPr/>
        </p:nvPicPr>
        <p:blipFill>
          <a:blip r:embed="rId2"/>
          <a:stretch/>
        </p:blipFill>
        <p:spPr>
          <a:xfrm>
            <a:off x="-152280" y="-122400"/>
            <a:ext cx="5675040" cy="34084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6" descr=""/>
          <p:cNvPicPr/>
          <p:nvPr/>
        </p:nvPicPr>
        <p:blipFill>
          <a:blip r:embed="rId3"/>
          <a:stretch/>
        </p:blipFill>
        <p:spPr>
          <a:xfrm>
            <a:off x="-396720" y="2932200"/>
            <a:ext cx="3859200" cy="1152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7"/>
          <p:cNvSpPr/>
          <p:nvPr/>
        </p:nvSpPr>
        <p:spPr>
          <a:xfrm>
            <a:off x="3124080" y="3200400"/>
            <a:ext cx="6019920" cy="37224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La semaine dernière  dans notre  classe  nous avons  eu  au sport  une leçon interesante de crique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Deux  entraîneurs  britanniques  nous  ont  appris   les  regles  du jeu puis a  commencé  la  formation  d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‘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équi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Nous  avons  attendu avec impatience les explications de l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’ entra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îneur  et  à  la fin  du temps  nous avons  eu  un  match entre deux  équi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Cela a  depassé  toute espérance  !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0" y="3962520"/>
            <a:ext cx="3124080" cy="280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I)Une decouverte practique... pg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II)L’ecologie… pg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III)Test… pg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elev</dc:creator>
  <dc:description/>
  <dc:language>en-US</dc:language>
  <cp:lastModifiedBy>user</cp:lastModifiedBy>
  <dcterms:modified xsi:type="dcterms:W3CDTF">2012-03-13T07:17:17Z</dcterms:modified>
  <cp:revision>196</cp:revision>
  <dc:subject/>
  <dc:title>Slide 1</dc:title>
</cp:coreProperties>
</file>